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248-5429-4719-96F5-2FEA8140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A7C-D81E-4E69-A386-62F7D39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57E-B9E6-48F9-AC1B-89E1FE5E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506-8D4F-43C3-8620-D5781B38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0F8-8E0C-4DF6-BDB8-94108214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85F-5326-44B9-B055-048F02F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F86-EA55-4CCB-AF80-2977689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216-7C19-48C8-A652-5BE4AB2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160-0B23-405B-8D69-C65B5541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4CC-1D82-4CF4-A7C7-405C00A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C4E-2E7E-4C67-B7A5-63253B5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EFB-8860-4905-9605-5A0C836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4966-A41B-41FC-9854-9679A580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0320" y="149040"/>
            <a:ext cx="6915600" cy="8908920"/>
            <a:chOff x="-40320" y="149040"/>
            <a:chExt cx="6915600" cy="890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-40320" y="149040"/>
              <a:ext cx="6915600" cy="890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86720" y="4378320"/>
              <a:ext cx="593388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5880" y="7807320"/>
              <a:ext cx="1186560" cy="114120"/>
            </a:xfrm>
            <a:custGeom>
              <a:avLst/>
              <a:gdLst>
                <a:gd name="textAreaLeft" fmla="*/ 207360 w 1186560"/>
                <a:gd name="textAreaRight" fmla="*/ 860400 w 1186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51480" y="7464240"/>
              <a:ext cx="79128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33720" y="1403280"/>
            <a:ext cx="1943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50920"/>
            <a:ext cx="6553440" cy="856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0640" y="611280"/>
            <a:ext cx="3168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16280" y="7524720"/>
            <a:ext cx="1584000" cy="360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44640" y="4788000"/>
            <a:ext cx="1584360" cy="360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3360" y="6012000"/>
            <a:ext cx="1584360" cy="360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21:41:13Z</dcterms:created>
  <dc:creator>bhe</dc:creator>
  <dc:description/>
  <dc:language>en-US</dc:language>
  <cp:lastModifiedBy>bhe</cp:lastModifiedBy>
  <dcterms:modified xsi:type="dcterms:W3CDTF">2006-11-24T18:54:48Z</dcterms:modified>
  <cp:revision>4</cp:revision>
  <dc:subject/>
  <dc:title>الشريحة 1</dc:title>
</cp:coreProperties>
</file>