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429-552E-4BBD-92B0-A130D2BD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2BB-C6D5-4882-A392-213AE8AB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D90-7B59-4F51-9A17-8DB4D267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C80-BCF6-4158-84F5-0AEBD8CB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989-D4F8-4E4B-AA09-73EC38B6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904-EE10-458B-8181-3329EB2F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E25-AEA6-4CE9-9BBF-0DB0D386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2F6-CFAD-46D8-980A-796F0F5F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F5E-A2E4-48D1-B576-57396B51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E47-8881-4FAB-9BB5-D4BD5FE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1E0-89DF-450B-ACCF-7963B3A6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060-1759-4C65-9305-653804EF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4367-C78B-44C8-86EC-9933032D4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67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21000" y="2268360"/>
            <a:ext cx="2933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3543480" cy="228600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914400"/>
            <a:ext cx="1714680" cy="1371600"/>
          </a:xfrm>
          <a:prstGeom prst="wedgeRectCallout">
            <a:avLst>
              <a:gd name="adj1" fmla="val -85962"/>
              <a:gd name="adj2" fmla="val -28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م المراجع</a:t>
            </a: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كاتب العالمية الكبر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rnst &amp;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PMG</a:t>
            </a: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الفوزان وبانقا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TT</a:t>
            </a: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بكر أبو الخير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WC</a:t>
            </a: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جريد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3360" y="2484360"/>
            <a:ext cx="6210360" cy="184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57360" y="2124000"/>
            <a:ext cx="914400" cy="343080"/>
          </a:xfrm>
          <a:prstGeom prst="wedgeRectCallout">
            <a:avLst>
              <a:gd name="adj1" fmla="val 30384"/>
              <a:gd name="adj2" fmla="val 199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رة النطا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25360" y="4500720"/>
            <a:ext cx="5143680" cy="16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45000" y="6227640"/>
            <a:ext cx="1143000" cy="343080"/>
          </a:xfrm>
          <a:prstGeom prst="wedgeRectCallout">
            <a:avLst>
              <a:gd name="adj1" fmla="val -45000"/>
              <a:gd name="adj2" fmla="val -107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رة الرأ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54680" cy="882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05000" y="2340000"/>
            <a:ext cx="2335320" cy="342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280" y="3348000"/>
            <a:ext cx="6193080" cy="210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21:14:34Z</dcterms:created>
  <dc:creator>bhe</dc:creator>
  <dc:description/>
  <dc:language>en-US</dc:language>
  <cp:lastModifiedBy>bhe</cp:lastModifiedBy>
  <dcterms:modified xsi:type="dcterms:W3CDTF">2006-11-22T21:37:11Z</dcterms:modified>
  <cp:revision>2</cp:revision>
  <dc:subject/>
  <dc:title>الشريحة 1</dc:title>
</cp:coreProperties>
</file>