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79D-7217-472E-96BA-7E0B274B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EFF-94A8-411D-A485-981B020E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C62-2CC1-4371-B9AE-FED23DBB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758-2C8A-4BF7-B6CA-1892F851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73F-EF6F-439C-98DC-9F0B12AD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0CF-CE57-4CD1-8DF5-AA6EB468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C11-7FB5-425C-9013-2440E893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792-D9F0-4EEF-B88F-304ADBB5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C86-1BDA-48CE-A2B6-C44E12CD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E87-1095-4599-87C1-A1C73FE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0C6-1322-4814-83CE-15672129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A37-3B59-4EC3-AF20-7FF33BD9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8553-8FBE-4864-A477-F6406FF70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5000" y="611280"/>
            <a:ext cx="5272200" cy="7624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272280" y="3749760"/>
            <a:ext cx="469800" cy="685800"/>
          </a:xfrm>
          <a:prstGeom prst="wedgeRectCallout">
            <a:avLst>
              <a:gd name="adj1" fmla="val -116217"/>
              <a:gd name="adj2" fmla="val 23865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3000" y="2949480"/>
            <a:ext cx="765000" cy="3314880"/>
          </a:xfrm>
          <a:prstGeom prst="wedgeRectCallout">
            <a:avLst>
              <a:gd name="adj1" fmla="val -68462"/>
              <a:gd name="adj2" fmla="val -4003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ختبارات السيول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سبة التداول = إجمالي الأصول المتداولة / إجمالي الخصوم المتداولة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0.35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ابد أن تكون أكثر من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ر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8600" y="5638680"/>
            <a:ext cx="49150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978360"/>
            <a:ext cx="442800" cy="685800"/>
          </a:xfrm>
          <a:prstGeom prst="wedgeRectCallout">
            <a:avLst>
              <a:gd name="adj1" fmla="val 263620"/>
              <a:gd name="adj2" fmla="val 20324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78080"/>
            <a:ext cx="765000" cy="1486080"/>
          </a:xfrm>
          <a:prstGeom prst="wedgeRectCallout">
            <a:avLst>
              <a:gd name="adj1" fmla="val 100000"/>
              <a:gd name="adj2" fmla="val -4326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سبة السيولة =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4480" y="3178080"/>
            <a:ext cx="49147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14480" y="2606760"/>
            <a:ext cx="5029200" cy="164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14480" y="3521160"/>
            <a:ext cx="5029200" cy="228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7164360"/>
            <a:ext cx="5029200" cy="228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97000" y="7451640"/>
            <a:ext cx="5143320" cy="228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37280" y="6516720"/>
            <a:ext cx="720720" cy="1512720"/>
          </a:xfrm>
          <a:prstGeom prst="wedgeRectCallout">
            <a:avLst>
              <a:gd name="adj1" fmla="val -71143"/>
              <a:gd name="adj2" fmla="val 20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سبة حقوق الملكية = إجمالي حقوق الملكية / إجمالي الحقوق  =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0200" y="1235160"/>
            <a:ext cx="22860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6877080"/>
            <a:ext cx="574560" cy="144360"/>
          </a:xfrm>
          <a:custGeom>
            <a:avLst/>
            <a:gdLst>
              <a:gd name="textAreaLeft" fmla="*/ 100440 w 574560"/>
              <a:gd name="textAreaRight" fmla="*/ 416520 w 5745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051830"/>
                <a:lnTo>
                  <a:pt x="19105" y="5565"/>
                </a:lnTo>
                <a:lnTo>
                  <a:pt x="17280" y="21600"/>
                </a:lnTo>
                <a:lnTo>
                  <a:pt x="10465" y="5565"/>
                </a:lnTo>
                <a:lnTo>
                  <a:pt x="12625" y="5565"/>
                </a:lnTo>
                <a:arcTo wR="7560" hR="21600" stAng="-4348170" swAng="-694395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97000" y="7308720"/>
            <a:ext cx="4896000" cy="228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0280" y="7164360"/>
            <a:ext cx="685800" cy="914400"/>
          </a:xfrm>
          <a:prstGeom prst="wedgeRectCallout">
            <a:avLst>
              <a:gd name="adj1" fmla="val 96111"/>
              <a:gd name="adj2" fmla="val -19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90800" y="2411280"/>
            <a:ext cx="574560" cy="144720"/>
          </a:xfrm>
          <a:custGeom>
            <a:avLst/>
            <a:gdLst>
              <a:gd name="textAreaLeft" fmla="*/ 100440 w 574560"/>
              <a:gd name="textAreaRight" fmla="*/ 416520 w 5745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051830"/>
                <a:lnTo>
                  <a:pt x="19105" y="5565"/>
                </a:lnTo>
                <a:lnTo>
                  <a:pt x="17280" y="21600"/>
                </a:lnTo>
                <a:lnTo>
                  <a:pt x="10465" y="5565"/>
                </a:lnTo>
                <a:lnTo>
                  <a:pt x="12625" y="5565"/>
                </a:lnTo>
                <a:arcTo wR="7560" hR="21600" stAng="-4348170" swAng="-694395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60640" y="3348000"/>
            <a:ext cx="574560" cy="144360"/>
          </a:xfrm>
          <a:custGeom>
            <a:avLst/>
            <a:gdLst>
              <a:gd name="textAreaLeft" fmla="*/ 100440 w 574560"/>
              <a:gd name="textAreaRight" fmla="*/ 416520 w 5745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051830"/>
                <a:lnTo>
                  <a:pt x="19105" y="5565"/>
                </a:lnTo>
                <a:lnTo>
                  <a:pt x="17280" y="21600"/>
                </a:lnTo>
                <a:lnTo>
                  <a:pt x="10465" y="5565"/>
                </a:lnTo>
                <a:lnTo>
                  <a:pt x="12625" y="5565"/>
                </a:lnTo>
                <a:arcTo wR="7560" hR="21600" stAng="-4348170" swAng="-694395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84640" y="3419640"/>
            <a:ext cx="43164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92640" y="826920"/>
            <a:ext cx="1584360" cy="792360"/>
          </a:xfrm>
          <a:prstGeom prst="wedgeEllipseCallout">
            <a:avLst>
              <a:gd name="adj1" fmla="val -105111"/>
              <a:gd name="adj2" fmla="val 183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لا يوجد توضيح مشكلة افصا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5265720" cy="7788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76640" y="1042920"/>
            <a:ext cx="2304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143000" y="5430240"/>
            <a:ext cx="48006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028880" y="6001560"/>
            <a:ext cx="50670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627200">
            <a:off x="5829480" y="5544720"/>
            <a:ext cx="799920" cy="457200"/>
          </a:xfrm>
          <a:custGeom>
            <a:avLst/>
            <a:gdLst>
              <a:gd name="textAreaLeft" fmla="*/ 124920 w 799920"/>
              <a:gd name="textAreaRight" fmla="*/ 616680 w 799920"/>
              <a:gd name="textAreaTop" fmla="*/ 125280 h 457200"/>
              <a:gd name="textAreaBottom" fmla="*/ 33192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925"/>
                </a:moveTo>
                <a:lnTo>
                  <a:pt x="10632" y="5925"/>
                </a:lnTo>
                <a:lnTo>
                  <a:pt x="10632" y="0"/>
                </a:lnTo>
                <a:lnTo>
                  <a:pt x="21600" y="10800"/>
                </a:lnTo>
                <a:lnTo>
                  <a:pt x="10632" y="21600"/>
                </a:lnTo>
                <a:lnTo>
                  <a:pt x="10632" y="15675"/>
                </a:lnTo>
                <a:lnTo>
                  <a:pt x="3375" y="15675"/>
                </a:lnTo>
                <a:close/>
              </a:path>
              <a:path w="21600" h="21600">
                <a:moveTo>
                  <a:pt x="0" y="5925"/>
                </a:moveTo>
                <a:lnTo>
                  <a:pt x="675" y="5925"/>
                </a:lnTo>
                <a:lnTo>
                  <a:pt x="675" y="15675"/>
                </a:lnTo>
                <a:lnTo>
                  <a:pt x="0" y="15675"/>
                </a:lnTo>
                <a:close/>
              </a:path>
              <a:path w="21600" h="21600">
                <a:moveTo>
                  <a:pt x="1350" y="5925"/>
                </a:moveTo>
                <a:lnTo>
                  <a:pt x="2700" y="5925"/>
                </a:lnTo>
                <a:lnTo>
                  <a:pt x="2700" y="15675"/>
                </a:lnTo>
                <a:lnTo>
                  <a:pt x="1350" y="156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545080"/>
            <a:ext cx="800280" cy="457200"/>
          </a:xfrm>
          <a:custGeom>
            <a:avLst/>
            <a:gdLst>
              <a:gd name="textAreaLeft" fmla="*/ 124920 w 800280"/>
              <a:gd name="textAreaRight" fmla="*/ 579960 w 800280"/>
              <a:gd name="textAreaTop" fmla="*/ 132480 h 457200"/>
              <a:gd name="textAreaBottom" fmla="*/ 32472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6270"/>
                </a:moveTo>
                <a:lnTo>
                  <a:pt x="7423" y="6270"/>
                </a:lnTo>
                <a:lnTo>
                  <a:pt x="7423" y="0"/>
                </a:lnTo>
                <a:lnTo>
                  <a:pt x="21600" y="10800"/>
                </a:lnTo>
                <a:lnTo>
                  <a:pt x="7423" y="21600"/>
                </a:lnTo>
                <a:lnTo>
                  <a:pt x="7423" y="15330"/>
                </a:lnTo>
                <a:lnTo>
                  <a:pt x="3375" y="15330"/>
                </a:lnTo>
                <a:close/>
              </a:path>
              <a:path w="21600" h="21600">
                <a:moveTo>
                  <a:pt x="0" y="6270"/>
                </a:moveTo>
                <a:lnTo>
                  <a:pt x="675" y="6270"/>
                </a:lnTo>
                <a:lnTo>
                  <a:pt x="675" y="15330"/>
                </a:lnTo>
                <a:lnTo>
                  <a:pt x="0" y="15330"/>
                </a:lnTo>
                <a:close/>
              </a:path>
              <a:path w="21600" h="21600">
                <a:moveTo>
                  <a:pt x="1350" y="6270"/>
                </a:moveTo>
                <a:lnTo>
                  <a:pt x="2700" y="6270"/>
                </a:lnTo>
                <a:lnTo>
                  <a:pt x="2700" y="15330"/>
                </a:lnTo>
                <a:lnTo>
                  <a:pt x="1350" y="1533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465800">
            <a:off x="5828760" y="4068360"/>
            <a:ext cx="688680" cy="457200"/>
          </a:xfrm>
          <a:custGeom>
            <a:avLst/>
            <a:gdLst>
              <a:gd name="textAreaLeft" fmla="*/ 148680 w 688680"/>
              <a:gd name="textAreaRight" fmla="*/ 540000 w 688680"/>
              <a:gd name="textAreaTop" fmla="*/ 127800 h 457200"/>
              <a:gd name="textAreaBottom" fmla="*/ 3294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6038"/>
                </a:moveTo>
                <a:lnTo>
                  <a:pt x="11017" y="6038"/>
                </a:lnTo>
                <a:lnTo>
                  <a:pt x="11017" y="0"/>
                </a:lnTo>
                <a:lnTo>
                  <a:pt x="21600" y="10800"/>
                </a:lnTo>
                <a:lnTo>
                  <a:pt x="11017" y="21600"/>
                </a:lnTo>
                <a:lnTo>
                  <a:pt x="11017" y="15562"/>
                </a:lnTo>
                <a:lnTo>
                  <a:pt x="0" y="15562"/>
                </a:lnTo>
                <a:lnTo>
                  <a:pt x="4666" y="10800"/>
                </a:lnTo>
                <a:lnTo>
                  <a:pt x="0" y="6038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465800">
            <a:off x="5943240" y="2916000"/>
            <a:ext cx="689040" cy="457200"/>
          </a:xfrm>
          <a:custGeom>
            <a:avLst/>
            <a:gdLst>
              <a:gd name="textAreaLeft" fmla="*/ 148680 w 689040"/>
              <a:gd name="textAreaRight" fmla="*/ 540360 w 689040"/>
              <a:gd name="textAreaTop" fmla="*/ 127800 h 457200"/>
              <a:gd name="textAreaBottom" fmla="*/ 3294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6038"/>
                </a:moveTo>
                <a:lnTo>
                  <a:pt x="11017" y="6038"/>
                </a:lnTo>
                <a:lnTo>
                  <a:pt x="11017" y="0"/>
                </a:lnTo>
                <a:lnTo>
                  <a:pt x="21600" y="10800"/>
                </a:lnTo>
                <a:lnTo>
                  <a:pt x="11017" y="21600"/>
                </a:lnTo>
                <a:lnTo>
                  <a:pt x="11017" y="15562"/>
                </a:lnTo>
                <a:lnTo>
                  <a:pt x="0" y="15562"/>
                </a:lnTo>
                <a:lnTo>
                  <a:pt x="4666" y="10800"/>
                </a:lnTo>
                <a:lnTo>
                  <a:pt x="0" y="6038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84640" y="5545080"/>
            <a:ext cx="5713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28880" y="6802560"/>
            <a:ext cx="5829120" cy="342720"/>
          </a:xfrm>
          <a:prstGeom prst="wedgeEllipseCallout">
            <a:avLst>
              <a:gd name="adj1" fmla="val 1699"/>
              <a:gd name="adj2" fmla="val -257592"/>
            </a:avLst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02280"/>
            <a:ext cx="11430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6459480"/>
            <a:ext cx="11430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82600" y="1087560"/>
            <a:ext cx="5265720" cy="7835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00280" y="1989000"/>
            <a:ext cx="5029200" cy="160020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21360" y="3059280"/>
            <a:ext cx="800280" cy="1485720"/>
          </a:xfrm>
          <a:prstGeom prst="downArrowCallout">
            <a:avLst>
              <a:gd name="adj1" fmla="val 25002"/>
              <a:gd name="adj2" fmla="val 25000"/>
              <a:gd name="adj3" fmla="val 30942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ظر الصفحة التالية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2600" y="914400"/>
            <a:ext cx="5265720" cy="8056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5400000">
            <a:off x="971280" y="4674960"/>
            <a:ext cx="3086280" cy="2286000"/>
          </a:xfrm>
          <a:prstGeom prst="rightArrowCallout">
            <a:avLst>
              <a:gd name="adj1" fmla="val 11890"/>
              <a:gd name="adj2" fmla="val 25000"/>
              <a:gd name="adj3" fmla="val 32645"/>
              <a:gd name="adj4" fmla="val 6796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7475400"/>
            <a:ext cx="32940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كلة إفصاح عن أساب التغيرات في هيكل الاستثمارا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76280" y="684360"/>
            <a:ext cx="5675400" cy="800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73360" y="1042920"/>
            <a:ext cx="316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قتطف من تقرير مجلس الادار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5000" y="5580000"/>
            <a:ext cx="4896000" cy="151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61000" y="4284720"/>
            <a:ext cx="936720" cy="934920"/>
          </a:xfrm>
          <a:prstGeom prst="wedgeRectCallout">
            <a:avLst>
              <a:gd name="adj1" fmla="val -43726"/>
              <a:gd name="adj2" fmla="val 93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عمليات مع ذوي العلاق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1000" y="4500720"/>
            <a:ext cx="345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03:06:49Z</dcterms:created>
  <dc:creator>USER</dc:creator>
  <dc:description/>
  <dc:language>en-US</dc:language>
  <cp:lastModifiedBy>USER</cp:lastModifiedBy>
  <dcterms:modified xsi:type="dcterms:W3CDTF">2006-11-25T08:30:41Z</dcterms:modified>
  <cp:revision>6</cp:revision>
  <dc:subject/>
  <dc:title>الشريحة 1</dc:title>
</cp:coreProperties>
</file>